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224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6120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0A8790-D692-4C45-8181-40CD6BFD79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A2D768A-6BEA-4A3E-AC11-6F4C6305094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612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AFD36C-085C-46B6-A898-9E5646DC2A8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612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6FCB1DE-18D6-4A71-AEE4-D01B7EB4FE2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612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1C9933B-7118-46F4-A88E-7FA6AFA2583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612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1FBD6AE-13BD-483D-B803-10074A1906D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D37A-3493-4868-BE2E-FB72B837D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2D45-F194-422D-815B-8870812E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21A4-4922-43A2-A14B-93C0FC63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5005-9D87-4DBC-9069-EA7A8CF7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C867-E8BA-4B16-B486-3483BF85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5E7B-B6B6-4EF5-A83F-61774D4F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B43E-D9B2-4CF5-9CFA-DB3CEC3C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E32F-D553-4513-829E-2D99E9A8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82D3-4D37-4604-8272-23DDE041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89AE-0A80-4DCE-BFC4-29C1F1DD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8103-6886-4D8C-B45C-1B443049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E819-2D02-432A-AB6C-EB314619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C2E3-E91B-4F93-A5D2-48A5C8AE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ECC6-1868-4048-B4FA-76C2FC46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4C51-E556-4F45-9505-D9247C62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5405-DDDF-47E6-92CA-8546A7C0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0F84-9F23-491F-8603-8EDB595A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527E-9B75-4E0E-A284-4FAE6A4C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3E69-3BE8-4D55-A4B0-C6E882F0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A55B-2E47-47A1-9276-94E264CA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6148-2B4F-4A2F-AE17-66E7E1D4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1CF5-0098-4607-8FBB-27DEE914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F18B-DDFA-44B5-A433-23A333D9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00EB-CD13-459C-8CCA-469772E5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8A9C-7A44-4030-B051-DFA1AFF122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140360" y="6426360"/>
            <a:ext cx="610920" cy="431640"/>
          </a:xfrm>
          <a:prstGeom prst="rect">
            <a:avLst/>
          </a:prstGeom>
          <a:solidFill>
            <a:srgbClr val="afc55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Health and</a:t>
            </a:r>
            <a:endParaRPr b="0" lang="en-US" sz="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Consumers</a:t>
            </a:r>
            <a:endParaRPr b="0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grpSp>
        <p:nvGrpSpPr>
          <p:cNvPr id="7" name="Group 15"/>
          <p:cNvGrpSpPr/>
          <p:nvPr/>
        </p:nvGrpSpPr>
        <p:grpSpPr>
          <a:xfrm>
            <a:off x="3849840" y="258840"/>
            <a:ext cx="1436400" cy="1004760"/>
            <a:chOff x="3849840" y="258840"/>
            <a:chExt cx="1436400" cy="1004760"/>
          </a:xfrm>
        </p:grpSpPr>
        <p:pic>
          <p:nvPicPr>
            <p:cNvPr id="8" name="Picture 8" descr="LOGO CE_Vertical_EN_NEG_quadri_HR"/>
            <p:cNvPicPr/>
            <p:nvPr/>
          </p:nvPicPr>
          <p:blipFill>
            <a:blip r:embed="rId2"/>
            <a:stretch/>
          </p:blipFill>
          <p:spPr>
            <a:xfrm>
              <a:off x="3849840" y="258840"/>
              <a:ext cx="143640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Rectangle 13"/>
            <p:cNvSpPr/>
            <p:nvPr/>
          </p:nvSpPr>
          <p:spPr>
            <a:xfrm>
              <a:off x="4141800" y="1222200"/>
              <a:ext cx="622440" cy="36720"/>
            </a:xfrm>
            <a:prstGeom prst="rect">
              <a:avLst/>
            </a:prstGeom>
            <a:solidFill>
              <a:srgbClr val="afc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6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1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grpSp>
        <p:nvGrpSpPr>
          <p:cNvPr id="47" name="Group 20"/>
          <p:cNvGrpSpPr/>
          <p:nvPr/>
        </p:nvGrpSpPr>
        <p:grpSpPr>
          <a:xfrm>
            <a:off x="3849840" y="258840"/>
            <a:ext cx="1436400" cy="1000080"/>
            <a:chOff x="3849840" y="258840"/>
            <a:chExt cx="1436400" cy="1000080"/>
          </a:xfrm>
        </p:grpSpPr>
        <p:pic>
          <p:nvPicPr>
            <p:cNvPr id="48" name="Picture 6" descr="LOGO CE-EN-quadri.eps"/>
            <p:cNvPicPr/>
            <p:nvPr/>
          </p:nvPicPr>
          <p:blipFill>
            <a:blip r:embed="rId2"/>
            <a:stretch/>
          </p:blipFill>
          <p:spPr>
            <a:xfrm>
              <a:off x="3849840" y="258840"/>
              <a:ext cx="143640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Rectangle 14"/>
            <p:cNvSpPr/>
            <p:nvPr/>
          </p:nvSpPr>
          <p:spPr>
            <a:xfrm>
              <a:off x="4145040" y="1222200"/>
              <a:ext cx="619200" cy="36720"/>
            </a:xfrm>
            <a:prstGeom prst="rect">
              <a:avLst/>
            </a:prstGeom>
            <a:solidFill>
              <a:srgbClr val="afc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6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  <p:sp>
        <p:nvSpPr>
          <p:cNvPr id="50" name="Rectangle 16"/>
          <p:cNvSpPr/>
          <p:nvPr/>
        </p:nvSpPr>
        <p:spPr>
          <a:xfrm>
            <a:off x="4140360" y="6426360"/>
            <a:ext cx="610920" cy="431640"/>
          </a:xfrm>
          <a:prstGeom prst="rect">
            <a:avLst/>
          </a:prstGeom>
          <a:solidFill>
            <a:srgbClr val="afc55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Health and</a:t>
            </a:r>
            <a:endParaRPr b="0" lang="en-US" sz="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Consumers</a:t>
            </a:r>
            <a:endParaRPr b="0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861A-5EC3-4816-8661-40A92697DAD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c.europa.eu/food/plant/pesticides/sustainable_use_pesticides/index_en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1760" y="1717560"/>
            <a:ext cx="8788680" cy="23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Sustainable Use of Pesticides in the EU: </a:t>
            </a:r>
            <a:br>
              <a:rPr sz="4000"/>
            </a:b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Directive 2009/128/EC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652320" y="4818240"/>
            <a:ext cx="800100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  <a:ea typeface="Arial"/>
              </a:rPr>
              <a:t>Karin Nienstedt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  <a:ea typeface="Arial"/>
              </a:rPr>
              <a:t>DG Health and Consumers / SANCO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  <a:ea typeface="Arial"/>
              </a:rPr>
              <a:t>Unit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Arial"/>
              </a:rPr>
              <a:t> E3 – Chemicals, contaminants, pesticides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Arial"/>
              </a:rPr>
              <a:t>6 October 2014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135900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b050"/>
                </a:solidFill>
                <a:latin typeface="Verdana"/>
              </a:rPr>
              <a:t>EU legislative framework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82560" y="981000"/>
            <a:ext cx="309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57320" y="2460600"/>
            <a:ext cx="201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5ec1"/>
                </a:solidFill>
                <a:latin typeface="Verdana"/>
                <a:ea typeface="Arial"/>
              </a:rPr>
              <a:t>Placing on the market of plant protection products</a:t>
            </a:r>
            <a:endParaRPr b="0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239920" y="5740560"/>
            <a:ext cx="434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5ec1"/>
                </a:solidFill>
                <a:latin typeface="Verdana"/>
                <a:ea typeface="Arial"/>
              </a:rPr>
              <a:t>Technical requirements for machinery</a:t>
            </a:r>
            <a:endParaRPr b="0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7031160" y="4124160"/>
            <a:ext cx="183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5ec1"/>
                </a:solidFill>
                <a:latin typeface="Verdana"/>
                <a:ea typeface="Arial"/>
              </a:rPr>
              <a:t>Maximum residue levels of pesticides</a:t>
            </a:r>
            <a:endParaRPr b="0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74600" y="4543560"/>
            <a:ext cx="204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5ec1"/>
                </a:solidFill>
                <a:latin typeface="Verdana"/>
                <a:ea typeface="Arial"/>
              </a:rPr>
              <a:t>Collection </a:t>
            </a:r>
            <a:br>
              <a:rPr sz="2000"/>
            </a:br>
            <a:r>
              <a:rPr b="1" lang="en-GB" sz="2000" spc="-1" strike="noStrike">
                <a:solidFill>
                  <a:srgbClr val="2d5ec1"/>
                </a:solidFill>
                <a:latin typeface="Verdana"/>
                <a:ea typeface="Arial"/>
              </a:rPr>
              <a:t>of statistics</a:t>
            </a:r>
            <a:endParaRPr b="0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7" name="AutoShape 15"/>
          <p:cNvSpPr/>
          <p:nvPr/>
        </p:nvSpPr>
        <p:spPr>
          <a:xfrm flipH="1">
            <a:off x="6268320" y="4505400"/>
            <a:ext cx="785880" cy="449280"/>
          </a:xfrm>
          <a:prstGeom prst="rightArrow">
            <a:avLst>
              <a:gd name="adj1" fmla="val 50000"/>
              <a:gd name="adj2" fmla="val 437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8" name="AutoShape 17"/>
          <p:cNvSpPr/>
          <p:nvPr/>
        </p:nvSpPr>
        <p:spPr>
          <a:xfrm>
            <a:off x="2198520" y="2716200"/>
            <a:ext cx="543240" cy="549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6800760" y="2496960"/>
            <a:ext cx="202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5ec1"/>
                </a:solidFill>
                <a:latin typeface="Verdana"/>
                <a:ea typeface="Arial"/>
              </a:rPr>
              <a:t>Sustainable use of pesticides</a:t>
            </a:r>
            <a:endParaRPr b="0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0" name="AutoShape 25"/>
          <p:cNvSpPr/>
          <p:nvPr/>
        </p:nvSpPr>
        <p:spPr>
          <a:xfrm flipH="1" rot="5400000">
            <a:off x="4269600" y="5393520"/>
            <a:ext cx="3729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1" name="AutoShape 31"/>
          <p:cNvSpPr/>
          <p:nvPr/>
        </p:nvSpPr>
        <p:spPr>
          <a:xfrm flipH="1" rot="10776000">
            <a:off x="2003040" y="4514760"/>
            <a:ext cx="785880" cy="449280"/>
          </a:xfrm>
          <a:prstGeom prst="rightArrow">
            <a:avLst>
              <a:gd name="adj1" fmla="val 50000"/>
              <a:gd name="adj2" fmla="val 437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12" name="Picture 32" descr=""/>
          <p:cNvPicPr/>
          <p:nvPr/>
        </p:nvPicPr>
        <p:blipFill>
          <a:blip r:embed="rId1"/>
          <a:stretch/>
        </p:blipFill>
        <p:spPr>
          <a:xfrm>
            <a:off x="2843280" y="2419200"/>
            <a:ext cx="3322440" cy="29498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33"/>
          <p:cNvSpPr/>
          <p:nvPr/>
        </p:nvSpPr>
        <p:spPr>
          <a:xfrm rot="10800000">
            <a:off x="6194520" y="2674800"/>
            <a:ext cx="542880" cy="549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8"/>
          <p:cNvSpPr/>
          <p:nvPr/>
        </p:nvSpPr>
        <p:spPr>
          <a:xfrm>
            <a:off x="1727280" y="2111400"/>
            <a:ext cx="3662280" cy="1401840"/>
          </a:xfrm>
          <a:custGeom>
            <a:avLst/>
            <a:gdLst>
              <a:gd name="textAreaLeft" fmla="*/ 0 w 3662280"/>
              <a:gd name="textAreaRight" fmla="*/ 3662640 w 3662280"/>
              <a:gd name="textAreaTop" fmla="*/ 0 h 1401840"/>
              <a:gd name="textAreaBottom" fmla="*/ 1402200 h 140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281320" y="2289240"/>
            <a:ext cx="303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MS PGothic"/>
              </a:rPr>
              <a:t>Directiv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 2009/128/EC</a:t>
            </a:r>
            <a:endParaRPr b="0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</a:t>
            </a:r>
            <a:endParaRPr b="0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16" name="Picture 15" descr="MS"/>
          <p:cNvPicPr/>
          <p:nvPr/>
        </p:nvPicPr>
        <p:blipFill>
          <a:blip r:embed="rId1"/>
          <a:stretch/>
        </p:blipFill>
        <p:spPr>
          <a:xfrm>
            <a:off x="1812960" y="3824280"/>
            <a:ext cx="1225440" cy="790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38400" y="3962520"/>
            <a:ext cx="506592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5494"/>
                </a:solidFill>
                <a:latin typeface="Verdana"/>
              </a:rPr>
              <a:t>Implementation by </a:t>
            </a:r>
            <a:r>
              <a:rPr b="1" lang="it-IT" sz="2000" spc="-1" strike="noStrike">
                <a:solidFill>
                  <a:srgbClr val="0f5494"/>
                </a:solidFill>
                <a:latin typeface="Verdana"/>
              </a:rPr>
              <a:t>Nov 2011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85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5494"/>
                </a:solidFill>
                <a:latin typeface="Verdana"/>
              </a:rPr>
              <a:t>National Action Plans </a:t>
            </a:r>
            <a:r>
              <a:rPr b="1" lang="it-IT" sz="2000" spc="-1" strike="noStrike">
                <a:solidFill>
                  <a:srgbClr val="0f5494"/>
                </a:solidFill>
                <a:latin typeface="Verdana"/>
              </a:rPr>
              <a:t>Nov 2012 </a:t>
            </a:r>
            <a:r>
              <a:rPr b="0" lang="it-IT" sz="2000" spc="-1" strike="noStrike">
                <a:solidFill>
                  <a:srgbClr val="0f5494"/>
                </a:solidFill>
                <a:latin typeface="Verdana"/>
              </a:rPr>
              <a:t>(revised at least every 5 year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85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1362600" y="5567400"/>
            <a:ext cx="617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0000"/>
                </a:solidFill>
                <a:latin typeface="Verdana"/>
                <a:ea typeface="Arial"/>
              </a:rPr>
              <a:t>Directive: national approaches in implementation + subsidiarity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0000"/>
                </a:solidFill>
                <a:latin typeface="Verdana"/>
                <a:ea typeface="Arial"/>
              </a:rPr>
              <a:t>"framework" Directive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9" name="Right Arrow 2"/>
          <p:cNvSpPr/>
          <p:nvPr/>
        </p:nvSpPr>
        <p:spPr>
          <a:xfrm>
            <a:off x="636480" y="599760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1047600" y="2254320"/>
            <a:ext cx="7925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484200" y="2381760"/>
            <a:ext cx="2886120" cy="31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5494"/>
                </a:solidFill>
                <a:latin typeface="Verdana"/>
                <a:ea typeface="MS PGothic"/>
              </a:rPr>
              <a:t>Reduce impacts on humans and the environment </a:t>
            </a:r>
            <a:endParaRPr b="0" lang="en-US" sz="2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5494"/>
                </a:solidFill>
                <a:latin typeface="Verdana"/>
                <a:ea typeface="MS PGothic"/>
              </a:rPr>
              <a:t>+ </a:t>
            </a:r>
            <a:endParaRPr b="0" lang="en-US" sz="2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MS PGothic"/>
              </a:rPr>
              <a:t>promote the use of low pesticides-input pest management </a:t>
            </a:r>
            <a:endParaRPr b="0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4062240" y="3645000"/>
            <a:ext cx="882720" cy="523800"/>
          </a:xfrm>
          <a:prstGeom prst="rightArrow">
            <a:avLst>
              <a:gd name="adj1" fmla="val 50000"/>
              <a:gd name="adj2" fmla="val 421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070520" y="3740040"/>
            <a:ext cx="9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MS PGothic"/>
              </a:rPr>
              <a:t>Tools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5581800" y="1363680"/>
            <a:ext cx="430200" cy="477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1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5" name="Oval 9"/>
          <p:cNvSpPr/>
          <p:nvPr/>
        </p:nvSpPr>
        <p:spPr>
          <a:xfrm>
            <a:off x="5573880" y="1844640"/>
            <a:ext cx="430200" cy="477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5573880" y="2325600"/>
            <a:ext cx="430200" cy="479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3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7" name="Oval 11"/>
          <p:cNvSpPr/>
          <p:nvPr/>
        </p:nvSpPr>
        <p:spPr>
          <a:xfrm>
            <a:off x="5581800" y="2830680"/>
            <a:ext cx="430200" cy="475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4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Oval 12"/>
          <p:cNvSpPr/>
          <p:nvPr/>
        </p:nvSpPr>
        <p:spPr>
          <a:xfrm>
            <a:off x="5573880" y="3328920"/>
            <a:ext cx="430200" cy="47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5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5581800" y="3814920"/>
            <a:ext cx="430200" cy="47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6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0" name="Oval 14"/>
          <p:cNvSpPr/>
          <p:nvPr/>
        </p:nvSpPr>
        <p:spPr>
          <a:xfrm>
            <a:off x="5581800" y="4324320"/>
            <a:ext cx="430200" cy="47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7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1" name="Oval 15"/>
          <p:cNvSpPr/>
          <p:nvPr/>
        </p:nvSpPr>
        <p:spPr>
          <a:xfrm>
            <a:off x="5581800" y="4827600"/>
            <a:ext cx="430200" cy="477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8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Oval 16"/>
          <p:cNvSpPr/>
          <p:nvPr/>
        </p:nvSpPr>
        <p:spPr>
          <a:xfrm>
            <a:off x="5581800" y="5332320"/>
            <a:ext cx="430200" cy="47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5977080" y="143820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Training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6032520" y="1932120"/>
            <a:ext cx="90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Sales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6032520" y="2413080"/>
            <a:ext cx="212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Awareness raising 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6033960" y="2908440"/>
            <a:ext cx="182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Equipment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6058080" y="3400560"/>
            <a:ext cx="21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Aerial applications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6033960" y="3807000"/>
            <a:ext cx="171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Aquatic environment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5934240" y="438480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Protected areas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5965920" y="477684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Handling, storage, disposal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6046920" y="533556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IPM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2" name="Oval 16"/>
          <p:cNvSpPr/>
          <p:nvPr/>
        </p:nvSpPr>
        <p:spPr>
          <a:xfrm>
            <a:off x="5583240" y="5829480"/>
            <a:ext cx="430200" cy="47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10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6068880" y="5810400"/>
            <a:ext cx="193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Harmonised risk indicators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Main ac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rain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rofessional PPP users, distributors and advisors get proper training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EU countries establish certification system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Dec 2013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fb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Symbol"/>
                <a:ea typeface="Symbol"/>
              </a:rPr>
              <a:t>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support: "Better Training Safer Food" Programm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al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PP sale only by trained people (certificate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o sale of professional PPPs to people without certificat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Main ac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spection of equipment in us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ll PAE inspected at least once by 2016, then every 5 year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after 2020 every 3 year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Harmonised standards for inspection of PAE under development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CEN mandate / ISO standard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9fb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Symbol"/>
                <a:ea typeface="Symbol"/>
              </a:rPr>
              <a:t>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support: "Better Training Safer Food" Programm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erial spraying is prohibit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…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but derogations are possible under some conditions. Warning of residents essential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Main ac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312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tegrated pest manage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General IPM principles (Annex III) mandatory for professional users since 1 January 2014.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f5494"/>
                </a:solidFill>
                <a:latin typeface="Verdana"/>
              </a:rPr>
              <a:t>MS to guarantee conditions for IPM (e.g. information tools, advisory services) + incentiv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f5494"/>
                </a:solidFill>
                <a:latin typeface="Verdana"/>
              </a:rPr>
              <a:t>MS to report by 2013 to COM on IPM implemen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Handling, storage, dispos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Recovery and disposal of PPP remnants and packaging according to waste legisl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Storage areas should prevent unwanted releases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Main ac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formation and awareness raising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Measures to inform the general public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systems to gather information on acute and chronic poisoning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f5494"/>
                </a:solidFill>
                <a:latin typeface="Verdana"/>
              </a:rPr>
              <a:t>Monitoring – strategic guidance under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inimising use or banning of PPP use in critical areas for environmental and health reas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f5494"/>
                </a:solidFill>
                <a:latin typeface="Verdana"/>
              </a:rPr>
              <a:t>water, public parcs, schools, protected natural areas, etc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8400" y="1328760"/>
            <a:ext cx="8011800" cy="20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ec.europa.eu/food/plant/pesticides/sustainable_use_pesticides/index_en.ht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3" name="Picture 6" descr="question-mark1a"/>
          <p:cNvPicPr/>
          <p:nvPr/>
        </p:nvPicPr>
        <p:blipFill>
          <a:blip r:embed="rId2"/>
          <a:stretch/>
        </p:blipFill>
        <p:spPr>
          <a:xfrm>
            <a:off x="3057480" y="2695680"/>
            <a:ext cx="2629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15:30:30Z</dcterms:created>
  <dc:creator/>
  <dc:description/>
  <dc:language>en-US</dc:language>
  <cp:lastModifiedBy/>
  <dcterms:modified xsi:type="dcterms:W3CDTF">2014-10-06T10:22:04Z</dcterms:modified>
  <cp:revision>1</cp:revision>
  <dc:subject/>
  <dc:title/>
</cp:coreProperties>
</file>